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153-246C-4A7E-AA83-9A95CBC1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2A6-1164-488E-988B-11DE1709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C91-78F3-47C1-8F4C-16BD80DC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E3E-E546-4644-A484-AB128930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15B5-6198-4B2D-A5AD-12BC2CBC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0699-F7F3-497A-A1F4-24AFA78A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C265-FE44-48D0-99D7-EC42076E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E626-D136-4044-97D5-1D945A48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5DF7-B057-4AF0-9ED9-AD70EA52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BA1A-40B8-4795-ABBD-6FC098FB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7436-E383-4B82-A02E-F6ED8736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C17-4858-4038-B2E5-BCC04EF7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FB04-4ADE-4E87-8DD1-F0AF46FB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26AC-9DB6-4021-B485-ED25E34D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59F8-D599-414E-A2F5-213C8879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4949-611F-4AD2-85CC-6B0E8038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B2F6-EF26-47ED-8588-592F93A0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037-1A17-430F-BE1E-E5ED7866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324-188B-4501-852C-418652E2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EC7-D7E7-4C0C-9846-6E668BFA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66B-B79A-4B97-BC0F-23BB3C0D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583-CC9C-43A7-8F51-947C4D9D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9AC-1BBB-4ACE-97F3-950B1769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C44-5CF7-411D-B552-FBB025B0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3E6C-4FDF-4CF9-876C-5864EAF107E4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7A7A-0BA6-4A02-B943-36F7CEF62755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904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DICINSKA DOKUMENTACI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240" y="3492000"/>
            <a:ext cx="8559720" cy="29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f dr Branislav Tiodorovi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ć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godina (izborni predmet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8320" y="304920"/>
            <a:ext cx="8815320" cy="57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pomo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ćna sredstva za vodjenje evidencij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o radu spec slu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žbe,dnevna evidencija o kretanju bolesnik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,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registri obolelih od bolesti od ve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ćeg socijalno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medicinskog značaj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registri obolelih od zaraznih bolesti,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razni izve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štaji koje je obavezna bolnica da podnosi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o hospitalizaciji,o profesionalnim bolestima,o radu specijalisti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čke službe,o potrošnji lekova i droga,o licima lečenim u intezivnoj nezi i dr 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BT003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5410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BT001" descr=""/>
          <p:cNvPicPr/>
          <p:nvPr/>
        </p:nvPicPr>
        <p:blipFill>
          <a:blip r:embed="rId2"/>
          <a:stretch/>
        </p:blipFill>
        <p:spPr>
          <a:xfrm>
            <a:off x="609480" y="76320"/>
            <a:ext cx="800100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BT002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8001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BT004" descr=""/>
          <p:cNvPicPr/>
          <p:nvPr/>
        </p:nvPicPr>
        <p:blipFill>
          <a:blip r:embed="rId2"/>
          <a:stretch/>
        </p:blipFill>
        <p:spPr>
          <a:xfrm>
            <a:off x="304920" y="311040"/>
            <a:ext cx="4243320" cy="6546960"/>
          </a:xfrm>
          <a:prstGeom prst="rect">
            <a:avLst/>
          </a:prstGeom>
          <a:ln w="0">
            <a:noFill/>
          </a:ln>
        </p:spPr>
      </p:pic>
      <p:pic>
        <p:nvPicPr>
          <p:cNvPr id="104" name="BT005" descr=""/>
          <p:cNvPicPr/>
          <p:nvPr/>
        </p:nvPicPr>
        <p:blipFill>
          <a:blip r:embed="rId3"/>
          <a:stretch/>
        </p:blipFill>
        <p:spPr>
          <a:xfrm>
            <a:off x="4840200" y="304920"/>
            <a:ext cx="430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T006" descr=""/>
          <p:cNvPicPr/>
          <p:nvPr/>
        </p:nvPicPr>
        <p:blipFill>
          <a:blip r:embed="rId2"/>
          <a:stretch/>
        </p:blipFill>
        <p:spPr>
          <a:xfrm>
            <a:off x="228600" y="249120"/>
            <a:ext cx="4303800" cy="6608880"/>
          </a:xfrm>
          <a:prstGeom prst="rect">
            <a:avLst/>
          </a:prstGeom>
          <a:ln w="0">
            <a:noFill/>
          </a:ln>
        </p:spPr>
      </p:pic>
      <p:pic>
        <p:nvPicPr>
          <p:cNvPr id="106" name="BT007" descr=""/>
          <p:cNvPicPr/>
          <p:nvPr/>
        </p:nvPicPr>
        <p:blipFill>
          <a:blip r:embed="rId3"/>
          <a:stretch/>
        </p:blipFill>
        <p:spPr>
          <a:xfrm>
            <a:off x="4803840" y="237960"/>
            <a:ext cx="434016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T008" descr=""/>
          <p:cNvPicPr/>
          <p:nvPr/>
        </p:nvPicPr>
        <p:blipFill>
          <a:blip r:embed="rId2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BT009" descr=""/>
          <p:cNvPicPr/>
          <p:nvPr/>
        </p:nvPicPr>
        <p:blipFill>
          <a:blip r:embed="rId2"/>
          <a:stretch/>
        </p:blipFill>
        <p:spPr>
          <a:xfrm>
            <a:off x="0" y="304920"/>
            <a:ext cx="4389480" cy="6318000"/>
          </a:xfrm>
          <a:prstGeom prst="rect">
            <a:avLst/>
          </a:prstGeom>
          <a:ln w="0">
            <a:noFill/>
          </a:ln>
        </p:spPr>
      </p:pic>
      <p:pic>
        <p:nvPicPr>
          <p:cNvPr id="109" name="BT010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2756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29268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cc00"/>
                </a:solidFill>
                <a:latin typeface="Arial"/>
              </a:rPr>
              <a:t>EVIDENCIJA I IZVEŠTAVANJE U ZDRAVSTVENOJ SLUŽBI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Vodjenje osnovne medicinske dokumentacije i evidencije o radu zdravstvenih radnika čini sastavni deo stručnomedicinskog rada lekara i zdravstvenih radnika uopšte i treba ga diferencirati od opštih administrativnih poslo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8680" y="304920"/>
            <a:ext cx="8208720" cy="57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U svakoj medicinskoj službi u zdravstvenim ustanovama na radnim mestima gde se direktno saobraća sa stalnim ili prolaznim bolesnicima,permanentno se vodi odredjena medicinska dokumentacij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Dokumentacioni obrasci su različiti i zavise od profila službe ili grupe populacije za koju ta služba sprovodi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zdravstvenu zaštitu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8320" y="456840"/>
            <a:ext cx="881532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Ovi obrasci sadrže izvesne zajedničke pokazatelj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lične podatke o bolesniku,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podatke o zaposlenju i zanimanju,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o kategoriji zdravstvenog osiguranj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evideciju o obolevanju i le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čenju,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jagnozi i terapiji,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odsustvovanja sa posla,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nalazi i mi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šljenja specijalista i komisija,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evidencija o izdati lekovima,uverenjima i d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8320" y="304920"/>
            <a:ext cx="8815320" cy="57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avilnik o sredstvima za vodjenje evidencije u oblasti zdravstva  Sl.list SRJ (6/2000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pisuje sredstva za vodjenje evidencije u oblasti zdravstva,na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čin upisivanja podataka,metodološki princip i standarde za vodjenje medicinske dokumentacij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Podaci o utvrdjenim oboljenjima,stanjima i povredama i leku upisuju se latiničnim nazivom i šiframa iz Medjunarodne klasifikacije bolesti,Nacionalne farmakopeje i drugih propisa iz ove oblasti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8680" y="380520"/>
            <a:ext cx="820872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U okviru vodjenja medicinske dokumentacije sprovodi se upisivanje podataka u sledeća sredstva evidencij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zdravstveni karton,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protoko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registar kartote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dnevna evidencija o ra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teku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evidencija o utvrdjenim obolenjima i stanji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knjiga evidenci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8680" y="380520"/>
            <a:ext cx="85104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prijave porodjaja,zarazne bolesti,bolesti od ve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g socijalnomedicinskog zna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ja i d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prijava u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vaoca opojnih drog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karton povredjeno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lista rehabilitaci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8680" y="380520"/>
            <a:ext cx="820872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cinsku dokumentaciju 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čine i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zdravstvena knji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žica osiguranika,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uputi i izve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štaji specijalis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nalozi za pru</a:t>
            </a: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žanje odredjene terapije uključujući i naloge za injekci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uput za bolnic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recept za izdavanje le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8680" y="380520"/>
            <a:ext cx="820872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idencije i dokumentacije u bolnici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zdravstveni karton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protokol bolesnika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protokol medicinskog rada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mati</a:t>
            </a:r>
            <a:r>
              <a:rPr b="0" lang="sl-SI" sz="2800" spc="-1" strike="noStrike">
                <a:solidFill>
                  <a:srgbClr val="ffffcc"/>
                </a:solidFill>
                <a:latin typeface="Arial"/>
              </a:rPr>
              <a:t>čna knjiga smeštenih u stacionaru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istorija bolesti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temperaturno-terapijsko-dijagnosti</a:t>
            </a:r>
            <a:r>
              <a:rPr b="0" lang="sl-SI" sz="2800" spc="-1" strike="noStrike">
                <a:solidFill>
                  <a:srgbClr val="ffffcc"/>
                </a:solidFill>
                <a:latin typeface="Arial"/>
              </a:rPr>
              <a:t>čka list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otpusna lista sa epikrizom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lista anestezije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knjige evidencije(o porodjajima,zaraznim bolestima i dr.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0:54:29Z</dcterms:created>
  <dc:creator>PCT</dc:creator>
  <dc:description/>
  <dc:language>en-US</dc:language>
  <cp:lastModifiedBy>Bata</cp:lastModifiedBy>
  <dcterms:modified xsi:type="dcterms:W3CDTF">2004-06-02T11:46:28Z</dcterms:modified>
  <cp:revision>3</cp:revision>
  <dc:subject/>
  <dc:title>MEDICINSKA DOKUMENTACIJA</dc:title>
</cp:coreProperties>
</file>